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45C-2F7E-4B33-B63B-97FDC090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6C0-7E8C-4786-8260-46BBE8F1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AA75D-14C3-44B8-83E5-0C68C0CE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92B0B-5590-4046-A723-D4831F1A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D0AC5-5559-41F7-A7C1-D9D14C0D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C4C51-BF0C-4F86-A4C4-BD5D7AD0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891A0-5B87-499F-AB5E-5F0A13EA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83AE3-7B62-4BAA-815C-559DF3A9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0E2E1-F64E-49A9-A585-6F56CCCE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58CCF-9D8F-4AE1-ABC4-C0F4C018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1E1FC-D0E7-4789-A7A8-12E11213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56AD7-CAB8-4E64-8789-EBA56771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F624-DFC2-4A95-878C-A3D7FA69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2CCB4-59A5-4AB3-A9C7-26212A46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3DB01-2FA3-4765-897E-DBC07D00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60743-863B-400A-99A0-D1FA4668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2434C-C03F-46BB-A69D-F56936BB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A048E-0865-4E9A-94E6-72D73397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571508-F3E6-41E2-9F6A-08A2D22E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55538-FDFC-41EF-A57E-B183405C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06B7B-3E79-4430-927C-ADEDDCB7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362AD-3DE0-4B10-8D9C-69D279BB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4E984-87F0-47D8-B015-57469D3E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36B-E8C6-4AAB-87B1-BE5622CA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1F6A5-F32A-464E-9C7E-EE96C8EB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BF2FAD-16B7-4A36-96BD-B7948BA1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E24DB4-1093-4BA5-B4F3-15A252A8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86F5E5-4B1E-4161-ADB6-08532207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6CF23F-FEAB-48F6-A6B5-8FDB49E9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81AC2F-7FC5-41DC-83E0-6D027552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C5E2FC-C5FE-4AD5-AD7C-49BE6157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60A36B-D5B3-419A-AA14-FA16FF46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4259FF-D0F2-4792-890A-CE63E481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6C5990-40B6-4A30-8DAC-D807D8FA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E05F09-BF18-4724-9C49-931F45AC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D7EA8B-C10C-4D13-A24A-12A1EE74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693C6F-F668-4022-AAD6-650509E0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6DD9B-86A4-4EE3-8A63-4D9B93FF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3F9173-360D-42AF-B353-6DF1F591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66B22-CC62-41D5-883A-617FA45B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DE052-8DDE-45B5-8891-40999E41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49766C-14EA-4ED9-AA87-1D70C7A4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43434-A9D6-4358-B2B2-48C2AF30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1C8A3-E3B8-4DCB-99A4-8806AEAB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523F5-1260-4CE4-AC3E-9A28C57B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C91C0-3CB7-40F2-B395-B355A1EA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C565A-9624-40A6-9E2B-E07427B4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96473-3114-4C3A-8D6B-D13859A7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DB84D-89CF-4C7C-A5CD-BD0A147C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EAAD8A-8C68-4293-95BD-22B69C69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7B229A-BFD2-42B5-8CA5-6FA8186F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3C8472-3C44-423C-886B-54EC242C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C079FC-6547-476E-85CF-65125086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B5A3EC-78C2-4CF0-A9FE-20C5E9B4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41C5B8-4A20-45B2-A7BE-D7BD6A32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DA76B4-3371-4191-92AD-10322ACB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425B72-23E7-4100-BCBC-1331B59B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44A950-C818-45E5-8AD7-86857CA2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CB6A8B-2741-48EA-A386-DD6E5B9C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51B6AD-DD8B-4A36-9CDA-EEAFB429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BD450B-E0FA-4D80-9C50-E9380C07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E05BC-9606-4C38-9960-6837E956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261C2-BAA9-498F-9B06-BF35EDDA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7D058-0F2C-470C-BD74-069D2E82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55507-0191-4A34-AF4F-9A1A7BDC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41937C-A4A4-4EB9-9CCC-9E933982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021A2-1029-45E6-8E12-87D65687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02859-02BC-47E9-ACC2-526EA31D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A1330-78F5-411D-B13D-04A39D70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6FC11-D7E6-4AB9-A174-54522CBC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2AB73-89FE-4D30-A6D9-3FC7095A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C6E95-9868-4521-9812-FE5A761A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EA620-2A4F-4399-8327-9D5BB3A2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DE9160-3911-43D4-985C-515D12E3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A2891-E948-4F0D-8F59-F92375ED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DFFF78-1A4D-4D74-9AB6-482E3A17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0F699E-A06B-477F-9C64-7506094E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25F1C-9463-45FE-8F6C-6BBAAFC0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D70712-663F-4411-AA10-C6BEF901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E82AA4-EDFF-4C8E-9D6F-5DC6B632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F52C3B-2FD2-4418-AE1A-BC4F3A0F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DFDC4C-A688-4BFF-BA23-E4C33BA1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45968A-4329-4648-B983-93FAB306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2F9C3-0082-4593-8ED6-044D4262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3CF50-774C-4BA6-9002-BF2FE0BC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A968A8-D171-4E16-AB2F-DBC32320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7E315-9291-4008-9DCB-098798FF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ABEA7-0140-4728-B1E0-F0479E8C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0CD13B-411A-4C41-95E7-C92D5CCC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33B226-CBAC-4A4E-8402-C5A52359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3A1D0-F490-4CD0-B46E-2A5C9A12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D30A82-E781-4283-B238-79D1F86F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8AC-03FA-4680-9ED6-0706AAD7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2925D3-92DD-4B14-9121-02122B83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815B4-D548-4FA5-A6E1-2301C2FD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58748-6D33-410B-99E5-2680A3B7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8BD59E-73A5-4AA8-8A7F-D369E92A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9857B-FB13-44EF-AAB3-EDF2EB0B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37F2A1-74E6-4728-AC8A-13EDAA7E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2763D-02B2-4F80-8A13-3CF545EA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BA6FD-B6CF-4986-BA7A-7F68EB53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CFD70C-AB19-4D09-A98C-2B4471B5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6CB2ED-0A89-480B-9B91-57E6F83B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11362-95D1-4288-BB38-D749C4B5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3947DF-4E5B-4EDA-BB02-B82EA3CC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78B46-536A-4375-9C57-B09B1C24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7DB2C-F87C-483D-A130-CE88BA9C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256F0F-A1D6-4359-B55F-2E9E50E9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5DD104-B907-445B-BEBF-F64006E3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757AB3-B75D-40EC-A15C-64EAA007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4DEDF9-97C1-4511-878B-34339213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2BDA63-EF2A-45DC-B34B-AE8386F3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E3262-6FBF-47D6-8C26-FEC4BC95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52034-53A1-490A-BA1D-9120E34B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79B51-AFC4-4520-89D7-5A11839A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12398-FA79-4BC8-BA1F-DBED88EF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15C8F-62EB-4D7F-BD00-4577F66D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77D77-C3CE-4687-A396-D9B1CB4D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620CB7-CFFD-4D3E-93AF-D799A6F7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FC6260-F136-41D5-826A-142A183D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53D824-ADF4-4DE2-82D0-284498DF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4F89AB-5E10-41D2-A9CD-C1B4F0F0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41C860-C749-4C5F-B124-DB68157B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F2140-8605-43BC-A78B-E247C7C4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1171B1-990F-44A1-ADF7-3878063A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B0EE10-0129-43C4-A477-67E58412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491F76-CAB8-4D65-B8D5-1ED333F7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3BD952-33A2-4C4A-A2C8-2C61F3EB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E6D7BE-7ACF-45A6-8762-927C5F71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477A5A-E594-4EA7-885B-435CAE6B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A4078A-B532-474C-B351-F64D75E1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A36A47-0222-477D-8D44-063CF1CE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B21C43-AF63-4A25-AE27-44088CF5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16468-F0A1-458C-B1A4-051535F6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39524-A917-4E21-B137-48C3DE9E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2C094E-915D-4115-8E1E-963139D1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9EFE85-CC9A-4D6D-B58D-9C6F16C6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0281E9-1487-4D2A-9182-548B02AD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39E553-B042-49AC-B142-27006587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E781E2-3AD4-48F8-85A5-B95E13B5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27BAFC-12FA-4D59-BEDE-6CCA6960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271C3E-3F96-4D9B-A449-0B41A07A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FBAD72-56C0-40BA-A98B-FF950392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868C7-4FBE-4F92-9D9A-67B3C122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07BC83-7A8F-41BC-B858-E98A87F0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7E27D7-66C0-4C80-869D-1A2FB056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AD3F5B-50FC-4E0C-AC65-72EF5A25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A7EEA-ABC5-4109-905F-F28E3DC2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52D58-7C03-45AB-8E2E-CED350DF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77FDC-2B57-4A2B-9064-0974A1AC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DCA4F-D853-4CB2-98E2-E1E3A1E0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A94-8ECE-4181-83DF-CA2ADAA1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0A072-BCAC-4BB0-BAF3-E9499F77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8BB30-00BC-4FF2-9A37-905C2C4B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A605A-0773-449C-AE69-71E246BB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16FDA-4089-401A-8550-6B0B7955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36171-A4DC-4C68-9CA3-8A8393CB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07F09-C40F-4185-9B32-C5BE9F0D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5A25C-9DD0-47EE-A295-16EE91F1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C36B99-1070-4857-BB82-B624217D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DE3D9-D5B7-4EB6-8E95-1201A0AF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5BFBD-426F-4BDF-AF8F-7EFBB74F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14B-C3FA-4500-9BF1-99B5AFAF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B19B85-1DEB-4832-9037-07D3FEBA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5A550-616C-48A6-AB76-9D4C63E9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D13D9E-3BF3-4E24-8B3A-38504189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7AA8A-4BEB-426C-ADFA-2F216418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872655-5431-4332-9D94-032E0DCC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4330D-2482-478B-9508-D012C826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C580A1-DDA6-42C8-BA64-9F5F1EE7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BB85D3-9C2F-4AA4-99DE-AD33C23E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8502D4-73A5-472B-8974-3F140148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9EC-09F8-4542-BBEA-8F1AD36E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C60-2BD6-4D93-91AB-0163BA15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05CB7E-914C-41D6-95CC-64F20416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AF610A-B4F8-4BC8-9276-6A28AC48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818B6B-40C0-4EA2-8EEC-CBD07764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D3F31F-A859-4D6A-82A2-7010B93E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9577A1-6137-4115-8FBE-4DC5D19C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EF07A8-A2DA-4509-ABA5-0AC22D32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5BF3BE-8F56-44BF-B181-67E2A71F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1C74EA-8278-4B28-A350-D8C703BD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BF170A-C772-4D54-AFE3-7BBE8A34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94D-E057-41B9-8A6F-3B18C673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1BAE03-2EA2-4E05-962A-2A234E72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5105C8-55CD-4B27-AA42-AD8BD98B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2B9A70-19AF-4E09-B89C-A0EF33B9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96986A-6AD3-483A-9BAE-97E61216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AD5B0E-3A76-4E11-B6ED-8E488E66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6B85AE-7673-4566-9E34-DB463929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BEF8EF-F18E-4C2E-8471-FC748D10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957B9A-E55E-4BFE-9431-36C06559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6A210D-6659-48F2-9B08-B4C6B57A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B6AD7B-CC31-45A9-968E-87D31516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0C1-311C-4CEA-873B-13DFAB0B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FF8498-2324-4251-A4A9-06C82774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D20C48-FCA1-47F5-A6F0-558297E1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30BEAF-C289-4C98-888C-16559EBC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5D6B80-D00C-4B3A-80B1-7C537791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5A7B89-FAD5-41BA-8CAF-9B9F0D8A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7F353F-5177-4E98-A5B2-A37BC75C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7D083D-88F1-47E9-A1D1-4C2186F7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6F60DD-3733-4FB1-9092-1763C0D2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1FB1B2-80AA-462F-98F1-F768F8F1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1D0CEA-BDCF-4CB4-B207-0E2BCDC6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0CF-3A0E-4521-ABD7-25DB8522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347A28-780C-44D0-8943-89D9EF88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6FE46A-446B-4D0B-AD45-665D082A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332030-65C7-4574-B67E-A9B8F3E0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EFAF46-3518-4321-B180-06BA1F1E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CB190F-D824-492E-A4B9-B01A684B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AB725A-8857-4DAE-B93D-59E90F88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6D8559-80B4-4D00-BD51-9AAF1884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0865B-6FF5-492E-8DEE-7889DA01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3012C-DA47-4C50-9BE1-D3DE4843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FD424-453B-402E-9426-2646DC52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F8F81-9D48-461E-B64C-EBB2E158948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FFE2F-80DC-4217-8DD6-E31DF39A29D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4F9DC-1C2B-4FB0-8053-62EF66F8D006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D8C1D-E984-4286-8A72-84F62B47010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CC2E8-5678-456A-8A04-73D11328C356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34DED-20F9-4C47-98B6-214C13C07F8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7EA4E-CE09-42A0-A86C-CACCF948C6A0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CEE36-99E6-4F1C-A398-A5DB22B8FE4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621B6-E0D1-4CAD-8E0B-68B452BC6C3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C8292-4C9D-4401-8A99-BA9EC803FC8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F2A31-E4BF-4E21-8E62-67E7E026F29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B7C3B-F831-4835-BFB6-2AA8EC97329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A612F-FF34-4F69-AB08-CF58DDE69A0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286EC-B273-4D86-8662-3F42AF264069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6D76F-5D16-442D-A7B3-7F02ADE61AB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81246-4ACF-45F1-8A72-250846D801D0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30E76-5EB7-4419-9E15-CCE96F6460C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7C44F-B00D-41F5-8102-3296B71CCD68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D382E-E37D-44ED-B482-D0023664719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94FD3-382D-4983-B711-6CBA362C7F8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21273-CCA1-4A8C-853E-F99C23DBA2F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964AC-21D2-4717-9457-A56610090C1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990A9-524B-4382-96B9-82CFB876511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A7A10-BDA7-4BC8-98A5-08A3FD82B54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09EF8-D00F-4F92-8856-2E687FB2E26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0C992-0E33-4189-B808-98F83FE298D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0DE9C-EDFF-4B9A-83D6-5543DE2D5B1A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24272-2B91-4C85-9008-584FB805FFF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7DDFB-3D63-4582-B055-64D86320DF7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96E90-CE8F-4B54-8C27-B5995886A0A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0A5F5-D89A-4D52-9553-009163A1373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1001D-51B8-4DA5-9733-552761C788C9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105E2-A0E3-45FE-A2C9-D3FBA25AE06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ADB01-09E3-4786-AD84-0B3EDA535A7A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449F9-6ECE-41D6-943A-8BFE25DF46E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D79DD-9121-43B5-8457-3691D391C270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4F7A4-D804-4851-8A21-6025E195B38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4436B-274F-458B-BF30-19015FBB8435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82B16-C8A9-4A23-9F05-42D14FE6A81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Do Now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95959"/>
                </a:solidFill>
                <a:latin typeface="Rockwell"/>
              </a:rPr>
              <a:t>Why do we use ramps to move heavy objects to higher places? </a:t>
            </a:r>
            <a:endParaRPr b="0" lang="en-US" sz="43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P4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type of simple machine is pictured here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Pul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eel and Axl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edg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ever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33" name="Picture 19" descr="wedge"/>
          <p:cNvPicPr/>
          <p:nvPr/>
        </p:nvPicPr>
        <p:blipFill>
          <a:blip r:embed="rId1"/>
          <a:stretch/>
        </p:blipFill>
        <p:spPr>
          <a:xfrm>
            <a:off x="6064200" y="4068720"/>
            <a:ext cx="1990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P5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type of simple machine is pictured here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Pul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eel and Axl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clined Plan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ever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36" name="Picture 17" descr="plane"/>
          <p:cNvPicPr/>
          <p:nvPr/>
        </p:nvPicPr>
        <p:blipFill>
          <a:blip r:embed="rId1"/>
          <a:stretch/>
        </p:blipFill>
        <p:spPr>
          <a:xfrm>
            <a:off x="6093000" y="4648320"/>
            <a:ext cx="19620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P6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type of simple machine is pictured here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Pul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crew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clined Plan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ever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39" name="Picture 5" descr="D:\IMAGES.WMF\TOOLS\HAND\TOLHN076.WMF"/>
          <p:cNvPicPr/>
          <p:nvPr/>
        </p:nvPicPr>
        <p:blipFill>
          <a:blip r:embed="rId1"/>
          <a:stretch/>
        </p:blipFill>
        <p:spPr>
          <a:xfrm>
            <a:off x="5919840" y="3205080"/>
            <a:ext cx="21351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66"/>
                </a:solidFill>
                <a:latin typeface="Rockwell"/>
              </a:rPr>
              <a:t>Simple Machines</a:t>
            </a:r>
            <a:endParaRPr b="0" lang="en-US" sz="2800" spc="-1" strike="noStrike">
              <a:solidFill>
                <a:srgbClr val="663366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Work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Rockwell"/>
              </a:rPr>
              <a:t>Work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Rockwell"/>
              </a:rPr>
              <a:t>: the amount of force applied to an object to move it a distance</a:t>
            </a:r>
            <a:endParaRPr b="0" lang="en-US" sz="4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Rockwell"/>
              </a:rPr>
              <a:t>Work =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Rockwell"/>
              </a:rPr>
              <a:t>Force </a:t>
            </a:r>
            <a:r>
              <a:rPr b="0" lang="en-US" sz="4800" spc="-1" strike="noStrike">
                <a:solidFill>
                  <a:srgbClr val="000000"/>
                </a:solidFill>
                <a:latin typeface="Rockwell"/>
              </a:rPr>
              <a:t>x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Rockwell"/>
              </a:rPr>
              <a:t> Distance</a:t>
            </a:r>
            <a:endParaRPr b="0" lang="en-US" sz="4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3366"/>
                </a:solidFill>
                <a:uFillTx/>
                <a:latin typeface="Rockwell"/>
              </a:rPr>
              <a:t>Simple Machine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Rockwell"/>
              </a:rPr>
              <a:t>A machine makes work easier by changing at least one of three factors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595959"/>
                </a:solidFill>
                <a:uFillTx/>
                <a:latin typeface="Rockwell"/>
              </a:rPr>
              <a:t>Distance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595959"/>
                </a:solidFill>
                <a:uFillTx/>
                <a:latin typeface="Rockwell"/>
              </a:rPr>
              <a:t>Force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595959"/>
                </a:solidFill>
                <a:uFillTx/>
                <a:latin typeface="Rockwell"/>
              </a:rPr>
              <a:t>Direction 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31120" cy="14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66"/>
                </a:solidFill>
                <a:latin typeface="Times New Roman"/>
                <a:ea typeface="Times New Roman"/>
              </a:rPr>
              <a:t>Two Types of Machines Exist: Simple Machines and Compound Machines</a:t>
            </a:r>
            <a:endParaRPr b="0" lang="en-US" sz="40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18" name="Picture 5" descr="The Six Simple Machines"/>
          <p:cNvPicPr/>
          <p:nvPr/>
        </p:nvPicPr>
        <p:blipFill>
          <a:blip r:embed="rId1"/>
          <a:stretch/>
        </p:blipFill>
        <p:spPr>
          <a:xfrm>
            <a:off x="0" y="1424160"/>
            <a:ext cx="91440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ompound Machine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Rockwell"/>
              </a:rPr>
              <a:t>A compound machine is made of </a:t>
            </a:r>
            <a:r>
              <a:rPr b="1" lang="en-US" sz="4800" spc="-1" strike="noStrike" u="sng">
                <a:solidFill>
                  <a:srgbClr val="595959"/>
                </a:solidFill>
                <a:uFillTx/>
                <a:latin typeface="Rockwell"/>
              </a:rPr>
              <a:t>2 or more </a:t>
            </a:r>
            <a:r>
              <a:rPr b="0" lang="en-US" sz="4800" spc="-1" strike="noStrike">
                <a:solidFill>
                  <a:srgbClr val="595959"/>
                </a:solidFill>
                <a:latin typeface="Rockwell"/>
              </a:rPr>
              <a:t>simple machines.</a:t>
            </a:r>
            <a:endParaRPr b="0" lang="en-US" sz="4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P1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type of simple machine is pictured here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Pul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eel and Axl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clined Plan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ever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4589640" y="4267080"/>
          <a:ext cx="346536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9640" y="4267080"/>
                    <a:ext cx="346536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P2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type of simple machine is pictured here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Pul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eel and Axl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clined Plan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edg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27" name="Picture 9" descr="axle"/>
          <p:cNvPicPr/>
          <p:nvPr/>
        </p:nvPicPr>
        <p:blipFill>
          <a:blip r:embed="rId1"/>
          <a:stretch/>
        </p:blipFill>
        <p:spPr>
          <a:xfrm>
            <a:off x="5897520" y="430380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P3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type of simple machine is pictured here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Pul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eel and Axl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clined Plan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edg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30" name="Picture 5" descr="BD05165_[1]"/>
          <p:cNvPicPr/>
          <p:nvPr/>
        </p:nvPicPr>
        <p:blipFill>
          <a:blip r:embed="rId1"/>
          <a:stretch/>
        </p:blipFill>
        <p:spPr>
          <a:xfrm>
            <a:off x="5272200" y="3760920"/>
            <a:ext cx="27828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44:00Z</dcterms:created>
  <dc:creator>Caroline Roth</dc:creator>
  <dc:description/>
  <dc:language>en-US</dc:language>
  <cp:lastModifiedBy>Caroline Roth</cp:lastModifiedBy>
  <dcterms:modified xsi:type="dcterms:W3CDTF">2011-02-22T12:48:45Z</dcterms:modified>
  <cp:revision>8</cp:revision>
  <dc:subject/>
  <dc:title>Bellringer</dc:title>
</cp:coreProperties>
</file>